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65600" y="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88808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5280" y="4645080"/>
            <a:ext cx="5317920" cy="44006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29016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65600" y="929016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b">
            <a:noAutofit/>
          </a:bodyPr>
          <a:lstStyle>
            <a:lvl1pPr indent="0" algn="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  <a:defRPr b="0" lang="pt-BR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fld id="{B79E79ED-F1F5-4D45-8B63-9F56F2F8FE9C}" type="slidenum">
              <a:rPr b="0" lang="pt-BR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765600" y="929016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b">
            <a:noAutofit/>
          </a:bodyPr>
          <a:p>
            <a:pPr algn="r"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fld id="{EE1B4169-3A6B-462F-9D6A-467C066EE874}" type="slidenum">
              <a:rPr b="0" lang="pt-BR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888080" cy="366552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65280" y="4645080"/>
            <a:ext cx="531792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1259-8297-445A-A3CE-7141EC435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CFAA-06CD-4213-BD50-835BC69AB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E441-C328-45AF-B79C-D9A787DCB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0C5D-AD9B-49A4-B02D-2158136A6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24D2-341D-45C7-AB1A-A9AB41AB0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19EF-D023-46FB-8FDE-3D3BAC0A3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7264-84E8-49FA-BA8D-9DCBA1A90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8304-E14A-4711-8CD2-8A21845C8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8E9C-DE73-4D97-954F-5A44FD925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FE9C-1D15-4934-9532-6D6C528C3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0660-7D10-4884-8D7A-77FC4A294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629B-274F-4E21-96A5-FFE2D6245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7FB2C-6193-43D7-A2AE-9771A15F2439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8"/>
          <p:cNvSpPr/>
          <p:nvPr/>
        </p:nvSpPr>
        <p:spPr>
          <a:xfrm>
            <a:off x="539640" y="2349360"/>
            <a:ext cx="7993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500" spc="-1" strike="noStrike">
                <a:solidFill>
                  <a:srgbClr val="000000"/>
                </a:solidFill>
                <a:latin typeface="Bookman Old Style"/>
              </a:rPr>
              <a:t>Acondicionament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179280" y="5479920"/>
            <a:ext cx="77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Bookman Old Style"/>
              </a:rPr>
              <a:t>Professor: Eng. Civil José W. Jiménez Roj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ondicion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2" descr=""/>
          <p:cNvPicPr/>
          <p:nvPr/>
        </p:nvPicPr>
        <p:blipFill>
          <a:blip r:embed="rId2"/>
          <a:stretch/>
        </p:blipFill>
        <p:spPr>
          <a:xfrm>
            <a:off x="1692360" y="1413000"/>
            <a:ext cx="5616360" cy="53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250920" y="1484280"/>
            <a:ext cx="856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ipos de Recipie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ondicion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250920" y="2060640"/>
            <a:ext cx="85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 caso de recipientes com mais de 100 litros, o funcionário encarregado da coleta deverá dispor de carrinho para o transporte até o veículo coletor. Alguns garis da coleta preferem “rolar” os latões de 200 lit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2" descr=""/>
          <p:cNvPicPr/>
          <p:nvPr/>
        </p:nvPicPr>
        <p:blipFill>
          <a:blip r:embed="rId3"/>
          <a:stretch/>
        </p:blipFill>
        <p:spPr>
          <a:xfrm>
            <a:off x="1258920" y="3284640"/>
            <a:ext cx="669780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250920" y="1484280"/>
            <a:ext cx="856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ipos de Recipie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ondicion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250920" y="2060640"/>
            <a:ext cx="856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difícios e estabelecimentos de grande porte podem utilizar contenedores de maior capacidade providos de tampa e rodízios, desde que se conte com veículo coletor que possua dispositivo para basculá-los mecanica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2"/>
          <p:cNvSpPr/>
          <p:nvPr/>
        </p:nvSpPr>
        <p:spPr>
          <a:xfrm>
            <a:off x="250920" y="3645000"/>
            <a:ext cx="42498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recipientes sem retorno são colocados no veículo coletor juntamente com o lixo que contêm, sendo mais utilizados os sacos plásticos, com capacidade geralmente entre 20 e 100 litros, devendo apresentar espessura suficiente para não romper durante a cole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3" descr=""/>
          <p:cNvPicPr/>
          <p:nvPr/>
        </p:nvPicPr>
        <p:blipFill>
          <a:blip r:embed="rId3"/>
          <a:stretch/>
        </p:blipFill>
        <p:spPr>
          <a:xfrm>
            <a:off x="5580000" y="3284640"/>
            <a:ext cx="22226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250920" y="1484280"/>
            <a:ext cx="856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ipos de Recipie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ondicion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250920" y="2060640"/>
            <a:ext cx="85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bora sejam ideais para o acondicionamento do ponto de vista sanitário e de agilização da coleta, os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acos plástico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apresentam os seguintes aspectos desfavoráve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250920" y="3141720"/>
            <a:ext cx="4249800" cy="35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fragilidade em relação a materiais cortantes ou perfurant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eço elevado que pode tornar inviável sua adoção pela população de baixa ren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Mesmo assim, pela economia que trazem ao serviço, e aconselhável a sua adoção obrigatória nas áreas de comércio mais ativo e nas concentradoras de população de maior poder aquisitiv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3" descr=""/>
          <p:cNvPicPr/>
          <p:nvPr/>
        </p:nvPicPr>
        <p:blipFill>
          <a:blip r:embed="rId3"/>
          <a:stretch/>
        </p:blipFill>
        <p:spPr>
          <a:xfrm>
            <a:off x="5651640" y="2852640"/>
            <a:ext cx="2303280" cy="2195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4" descr=""/>
          <p:cNvPicPr/>
          <p:nvPr/>
        </p:nvPicPr>
        <p:blipFill>
          <a:blip r:embed="rId4"/>
          <a:stretch/>
        </p:blipFill>
        <p:spPr>
          <a:xfrm>
            <a:off x="5292720" y="5157720"/>
            <a:ext cx="304812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"/>
          <p:cNvSpPr/>
          <p:nvPr/>
        </p:nvSpPr>
        <p:spPr>
          <a:xfrm>
            <a:off x="250920" y="1484280"/>
            <a:ext cx="856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ipos de Recipie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ondicion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1835280" y="2214720"/>
            <a:ext cx="5616360" cy="398880"/>
          </a:xfrm>
          <a:prstGeom prst="rect">
            <a:avLst/>
          </a:prstGeom>
          <a:solidFill>
            <a:srgbClr val="d5d5d5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cipientes alternativos para lixo residen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250920" y="2965320"/>
            <a:ext cx="8569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ntre a boa disposição do administrador e a execução, pela população, dos procedimentos propostos para acondicionamento do lixo, há uma grande barreira: os recipientes para lixo são caros para a maioria da população urbana brasileira que é muito pobre! Há o risco de lixo virar lux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5"/>
          <p:cNvSpPr/>
          <p:nvPr/>
        </p:nvSpPr>
        <p:spPr>
          <a:xfrm>
            <a:off x="250920" y="4997520"/>
            <a:ext cx="856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 Nordeste, por exemplo, são comuns os recipientes para lixo feitos a partir de pneus usados de automóveis ou caminhões. A solução, se não é tecnicamente perfeita, é operacionalmente aceitável e ainda gera emprego para artesão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250920" y="1484280"/>
            <a:ext cx="856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ipos de Recipie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ondicion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1835280" y="2214720"/>
            <a:ext cx="5616360" cy="398880"/>
          </a:xfrm>
          <a:prstGeom prst="rect">
            <a:avLst/>
          </a:prstGeom>
          <a:solidFill>
            <a:srgbClr val="d5d5d5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cipientes alternativos para lixo residen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1"/>
          <p:cNvSpPr/>
          <p:nvPr/>
        </p:nvSpPr>
        <p:spPr>
          <a:xfrm>
            <a:off x="250920" y="2965320"/>
            <a:ext cx="85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da contenedor de lixo é, portanto, confeccionado a partir de um só pneu usado. Seu tamanho e forma dependerão do tipo de pneu utilizado, bem como da seção cortada para se fazer o fun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2"/>
          <p:cNvSpPr/>
          <p:nvPr/>
        </p:nvSpPr>
        <p:spPr>
          <a:xfrm>
            <a:off x="250920" y="4221000"/>
            <a:ext cx="85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e tal promover em sua cidade um programa para confecção de tais tipos de recipientes por parte de mão-de-obra não qualificada ou de menores carentes em áreas de baixa rend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3"/>
          <p:cNvSpPr/>
          <p:nvPr/>
        </p:nvSpPr>
        <p:spPr>
          <a:xfrm>
            <a:off x="250920" y="5446800"/>
            <a:ext cx="85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sso traria vantagens para a Prefeitura, tornando mais fácil a coleta de lixo. Por outro lado, iria proporcionar os recursos necessários à subsistência de pessoas que estão precisando trabalh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6"/>
          <p:cNvSpPr/>
          <p:nvPr/>
        </p:nvSpPr>
        <p:spPr>
          <a:xfrm>
            <a:off x="250920" y="1484280"/>
            <a:ext cx="856908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nde começam os problemas para o serviço de limpeza Urbana de sua cidad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esta pergunta, certamente, poucas pessoas responderão: “Em nossas próprias residências”. Pois é exatamente esta a resposta corret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0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ondicion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9" descr=""/>
          <p:cNvPicPr/>
          <p:nvPr/>
        </p:nvPicPr>
        <p:blipFill>
          <a:blip r:embed="rId4"/>
          <a:stretch/>
        </p:blipFill>
        <p:spPr>
          <a:xfrm>
            <a:off x="2843280" y="3141720"/>
            <a:ext cx="591480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250920" y="1484280"/>
            <a:ext cx="8569080" cy="26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mbora seja possível definir o tipo de acondicionamento tecnicamente mais adequado para cada situação, sua padronização é muito difícil porque tal atribuição é do usuári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nsiderando que “o ótimo é inimigo do bom”, os esforços da Municipalidade deverão ser concentrados no sentido de conscientizar a população para que procure acondicionar, da melhor maneira possível o lixo gerado em cada domicíli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ondicion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1" descr=""/>
          <p:cNvPicPr/>
          <p:nvPr/>
        </p:nvPicPr>
        <p:blipFill>
          <a:blip r:embed="rId4"/>
          <a:stretch/>
        </p:blipFill>
        <p:spPr>
          <a:xfrm>
            <a:off x="1979640" y="4149720"/>
            <a:ext cx="48960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250920" y="148428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m relação à adequação do acondicionamento à coleta, o recipiente apropriado para lixo deverá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ondicion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1"/>
          <p:cNvSpPr/>
          <p:nvPr/>
        </p:nvSpPr>
        <p:spPr>
          <a:xfrm>
            <a:off x="971640" y="2349360"/>
            <a:ext cx="7451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tender às condições sanitária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ão ser feio, repulsivo ou desagradáve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er capacidade para conter o lixo gerado durante o intervalo entre uma coleta e outr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ermitir uma coleta rápida, aumentando com isso a produtividade do serviç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ossibilitar uma manipulação segura por parte da equipe de cole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2" descr=""/>
          <p:cNvPicPr/>
          <p:nvPr/>
        </p:nvPicPr>
        <p:blipFill>
          <a:blip r:embed="rId3"/>
          <a:stretch/>
        </p:blipFill>
        <p:spPr>
          <a:xfrm>
            <a:off x="1042920" y="4581360"/>
            <a:ext cx="697392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250920" y="148428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Movimentação do lixo em áreas internas de residência multifamiliares e estabelecimentos comercia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ondicion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2"/>
          <p:cNvSpPr/>
          <p:nvPr/>
        </p:nvSpPr>
        <p:spPr>
          <a:xfrm>
            <a:off x="250920" y="2421000"/>
            <a:ext cx="85690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uitas vezes, existe a necessidade de se transportar o lixo gerado já de alguma maneira acondicionado até o local indicado para a sua remo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s duas alternativas mais comumente utilizadas sã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3" descr=""/>
          <p:cNvPicPr/>
          <p:nvPr/>
        </p:nvPicPr>
        <p:blipFill>
          <a:blip r:embed="rId3"/>
          <a:stretch/>
        </p:blipFill>
        <p:spPr>
          <a:xfrm>
            <a:off x="2124000" y="3716280"/>
            <a:ext cx="4897440" cy="29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250920" y="148428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Movimentação do lixo em áreas internas de residência multifamiliares e estabelecimentos comercia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ondicion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250920" y="2421000"/>
            <a:ext cx="85690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 caso de grandes fontes geradoras, pode-se tornar interessante a adoção de equipamentos auxiliares para a redução de volume ou de peso do lixo no próprio local onde ele é produzi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mais utilizados sã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2"/>
          <p:cNvSpPr/>
          <p:nvPr/>
        </p:nvSpPr>
        <p:spPr>
          <a:xfrm>
            <a:off x="3218400" y="3500280"/>
            <a:ext cx="1678680" cy="368280"/>
          </a:xfrm>
          <a:prstGeom prst="rect">
            <a:avLst/>
          </a:prstGeom>
          <a:solidFill>
            <a:srgbClr val="d5d5d5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ciner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3" descr=""/>
          <p:cNvPicPr/>
          <p:nvPr/>
        </p:nvPicPr>
        <p:blipFill>
          <a:blip r:embed="rId3"/>
          <a:stretch/>
        </p:blipFill>
        <p:spPr>
          <a:xfrm>
            <a:off x="7564320" y="3284640"/>
            <a:ext cx="1471680" cy="3456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4"/>
          <p:cNvSpPr/>
          <p:nvPr/>
        </p:nvSpPr>
        <p:spPr>
          <a:xfrm>
            <a:off x="250920" y="4221000"/>
            <a:ext cx="720072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tilizado em situações especiais, como por exemplo em hospitais, o seu uso acarreta as seguintes vantage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centuada redução de peso e volume do lix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ratamento sanitário excelente do lixo, desde que operado adequadamen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ossibilidade de geração de vapor ou água quente para uso no próprio hospi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250920" y="148428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Movimentação do lixo em áreas internas de residência multifamiliares e estabelecimentos comercia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ondicion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250920" y="2421000"/>
            <a:ext cx="85690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 caso de grandes fontes geradoras, pode-se tornar interessante a adoção de equipamentos auxiliares para a redução de volume ou de peso do lixo no próprio local onde ele é produzi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mais utilizados sã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1"/>
          <p:cNvSpPr/>
          <p:nvPr/>
        </p:nvSpPr>
        <p:spPr>
          <a:xfrm>
            <a:off x="3218400" y="3500280"/>
            <a:ext cx="1678680" cy="368280"/>
          </a:xfrm>
          <a:prstGeom prst="rect">
            <a:avLst/>
          </a:prstGeom>
          <a:solidFill>
            <a:srgbClr val="d5d5d5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ciner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3"/>
          <p:cNvSpPr/>
          <p:nvPr/>
        </p:nvSpPr>
        <p:spPr>
          <a:xfrm>
            <a:off x="250920" y="4221000"/>
            <a:ext cx="72007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s principais aspectos negativos, quanto ao seu emprego sã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poluição atmosférica que pode ocasiona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exigência de manutenção especializad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usto do combustível utiliz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4" descr=""/>
          <p:cNvPicPr/>
          <p:nvPr/>
        </p:nvPicPr>
        <p:blipFill>
          <a:blip r:embed="rId3"/>
          <a:stretch/>
        </p:blipFill>
        <p:spPr>
          <a:xfrm>
            <a:off x="5076720" y="4653000"/>
            <a:ext cx="376740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250920" y="148428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Movimentação do lixo em áreas internas de residência multifamiliares e estabelecimentos comercia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ondicion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250920" y="2421000"/>
            <a:ext cx="85690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 caso de grandes fontes geradoras, pode-se tornar interessante a adoção de equipamentos auxiliares para a redução de volume ou de peso do lixo no próprio local onde ele é produzi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mais utilizados sã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338400" y="4292640"/>
            <a:ext cx="2695320" cy="368280"/>
          </a:xfrm>
          <a:prstGeom prst="rect">
            <a:avLst/>
          </a:prstGeom>
          <a:solidFill>
            <a:srgbClr val="d5d5d5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mpactadores de lix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2"/>
          <p:cNvSpPr/>
          <p:nvPr/>
        </p:nvSpPr>
        <p:spPr>
          <a:xfrm>
            <a:off x="250920" y="5176800"/>
            <a:ext cx="849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istem modelos para prensagem vertical ou horizontal. O compactador é capaz de reduzir até quatro vezes o volume inicial. São empregados em grandes edifícios onde a geração de lixo é muito al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250920" y="1484280"/>
            <a:ext cx="856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ipos de Recipie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ondicion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250920" y="2060640"/>
            <a:ext cx="8569080" cy="44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o escolher o tipo apropriado de acondicionamento? Bem, para isto entram em consideração os seguintes fator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as características do lix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a sua geraçã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a freqüência com que a coleta é feit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tipo de edificaçã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eço do recipi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qui será preciso fazer distinção entre: recipientes com retorno e sem retor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primeiros são os devolvidos pelo coletor após o esvaziam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3" descr=""/>
          <p:cNvPicPr/>
          <p:nvPr/>
        </p:nvPicPr>
        <p:blipFill>
          <a:blip r:embed="rId3"/>
          <a:stretch/>
        </p:blipFill>
        <p:spPr>
          <a:xfrm>
            <a:off x="4356000" y="3068640"/>
            <a:ext cx="441000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18:40:57Z</dcterms:created>
  <dc:creator>José Rojas</dc:creator>
  <dc:description/>
  <dc:language>en-US</dc:language>
  <cp:lastModifiedBy>ROJAS</cp:lastModifiedBy>
  <dcterms:modified xsi:type="dcterms:W3CDTF">2014-05-08T01:47:25Z</dcterms:modified>
  <cp:revision>208</cp:revision>
  <dc:subject/>
  <dc:title>Slide 1</dc:title>
</cp:coreProperties>
</file>